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9BA-C592-416B-BBE0-75B37BA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863-C042-4566-BE04-931E657A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753-D0A0-47E7-ACAC-B2B2935E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90F-54FA-4547-8E73-51088710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EB6D-6279-40CF-9B68-8266EC4B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4387-7E21-4B06-A716-7DF653E8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114D-928E-41D9-A371-96023C9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10F1-A6B0-4471-A228-D82BBA55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7F0F-50B1-40F0-86F2-9CBD3884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5A7-319F-4E67-A23F-4DD2CAE9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6F9D-7804-4226-A563-041C08A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74D-7E24-400C-B509-B8A5CF9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7B3-A1EC-46EB-966F-097033B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EAEF-C0E8-4D2B-90FC-E787C95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9DC-C3D8-45FA-870D-9B3524F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14F-A3F6-44F0-8090-419CE6DC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D162-22CB-4C67-9E93-16C7119E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560-2FAF-4CDD-823A-A27716A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07A-965C-407D-AB63-45685CC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552-52DE-4A62-8FA7-3641A5A5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9E8-0346-44D3-A641-12C68411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4B1-168D-48A0-8BE0-17E235F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14D-2BBA-4E8D-91FB-18DC0E0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33D-D729-4BE4-B258-CF0600B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712-B809-402B-ADC2-F1E363DD5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296E-1D5C-46A3-91BD-EBE412346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696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квариум - модель искусственно созданной экосистемы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990720"/>
            <a:ext cx="664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дметы ухода за обитателя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828800" y="5486400"/>
            <a:ext cx="5400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: студентка 636 группы Клик Алеся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438640" cy="312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Установка аквариум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ромой и насыпь гра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только аквариум будет правильно установлен, нужно сразу насыпать гравий. Удостоверься, что гравий чист, тщательно вымой его проточной водой. Используй сито: наполни его гравием и подставь под струю воды. Затем осторожно пересыпь гравий из сита в аквари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сыпай гравий осторожно. Помни, что тебе нужно создать всего лишь тонкий слой на д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лей в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ующий шаг – добавление воды в аквариум. Сначала нужно заполнить его наполовину. Для этого используй большой кувш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слони к стенке аквариума тарелку и наливай воду так, чтобы она стекла по ней. Так ты не потревожишь гра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Установка аквариум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обавь дехлорина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опроводная вода в аквариуме непригодна для золотых рыбок из-за высокого содержания хл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 придется добавить в нее химическое вещество – дехлоринатор. Его можно приобрести в зоомагаз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щательно следуй инструкции на упаковк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крашение аквариу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украсить аквариум можно поместить в него цветные камушки, декоративные приспособления или пластиковые растения. Лучше покупать их в зоо магазине, так как камешки с пляжа могут быть с острыми краями или содержать ядовитые ве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стиковые растения могут оказаться менее вредными, так как настоящие – рыбка может съе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Установка аквариум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одсоедини фильт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да в аквариуме должна оставаться чистой и свежей. Этого достигают, используя специальный фильтр – самую важную часть аквариума. Когда ты будешь покупать аквариум, продавец посоветует, какой подходящий фильтр лучше выбр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и фильтр и долей оставшуюся воду. Включи фильтр и дай ему поработать неделю, перед тем, как запускать рыб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3526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апускаем золотую рыбку в аквариу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не дадите рыбке привыкнуть к температуре воды в новом аквариуме, она может умереть от ш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. Опустите пакет в 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зоомагазине рыбку поместят  в пластиковый пакет, наполовину заполненный водой. Ее температура будет отлична от температуры воды в аквариуме, поэтому рыбке нужно дать время приспособ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сначала положите ее в аквариум прямо в пакете. Если ваш аквариум оборудован освещением – погасите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4440240"/>
            <a:ext cx="312444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Запускаем золотую рыбку в аквариу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йте рыбке самой выплыть в аквариум. Не выбрасывайте ее в 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. Выпустите рыбку из пак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час температура воды в пакете сравняется с температурой воды в аквариуме. Аккуратно развяжите пакет и выпустите рыбку наружу. Включите свет и оставьте его на весь д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3. Корм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ключать свет в одно и то же время, что бы рыбка привыкла к этому. По прошествии недели начните кормить рыбку, подсыпая ей еду небольшими щепотками. Если рыбка не съела все за 5 мин., значит вы перекармливаете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хотите иметь больше одной рыбки, запускайте новых рыб в акв – м с интервалом в неде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219060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рм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у рыбкам давай небольшими порциями, чтобы они ее съедали «на лет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ая вкусная еда для рыб – живой корм: мотыль, дафнии, циклопы. Сухой корм лучше чередовать с жив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ин- два раза в день рыб следует покорм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057400" cy="1539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333440" cy="243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086600" y="3505320"/>
            <a:ext cx="12477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олезни рыб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Сакролег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рибок –белые комочки на тел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Ихтиофтириу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бугорки на те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Оодино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л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Туберкуле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зъерошенная чешу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Воспаление желудка и кишеч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Существуют рыбьи лек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Морские рыбки"/>
          <p:cNvPicPr/>
          <p:nvPr/>
        </p:nvPicPr>
        <p:blipFill>
          <a:blip r:embed="rId1"/>
          <a:stretch/>
        </p:blipFill>
        <p:spPr>
          <a:xfrm>
            <a:off x="6019920" y="4495680"/>
            <a:ext cx="259056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2 способ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Живородящ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- Икромечущ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Некоторые особи выхаживают во р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ыбы делают себе гнезда из п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цы некоторых лабиринтовых рыб сооружают у поверхности воды гнездо из пены. Туда самки мечут икру, а затем родители защищают свое пенное гнездо до выклевывания и/или свободного плавания лич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666880" y="4662360"/>
            <a:ext cx="3505320" cy="2149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243828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6600" y="410760"/>
            <a:ext cx="79596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казани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щивайте мальков лишь в том случае, если вам требуется сохранить поголовье в собственном аквариуме или если есть в кругу  ваших знакомых появились желающие завести у себя подобных ры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щивание же большого количества молоди, для которых впоследствии не будет достаточно места или на которых не будет покупателей, бессмысленно и граничит с мучением 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50532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-609840"/>
            <a:ext cx="845820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Для аквариума тебе необходимо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греватель, термометр, лампа, скребок для чистки стекол, сачек, сифон, термостат, компрессо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ф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ботает по принципу пылесоса, отсасывая грязь с гравия и растений с аквариу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ка рефлектора – регулирует степень освещ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греват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ддерживает оптимальную для ры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рмометр – показывает уровень температуры воды в аквариу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ребком для чистки стек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ы замечательно очистите стенки аквариума от нал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моста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ибор для поддержания темп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ресс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это совокупность устройств, необходимых для получения сжатого воздуха или др. г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квариумист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4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квари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от греч. «аква» 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в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мале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ьки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кусственный водо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настоящий уголок подводного царства, его обитатели требуют правильного у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124080" y="4361040"/>
            <a:ext cx="274320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Значение аквариума в ДОУ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вариумы оказывают релаксационное воздействие на детей, привлекают их вним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их помощью возникает возможность организации наблюдения за обитателями искусственно созданной экосистем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1640" y="548640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190476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же нужно знать, чтобы содержать в группе аквариум?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Прежде всего аквариум должен быть правильно оборудован и засажен достаточным количеством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Нужно наладить также правильное освещение ( при избытке вода зеленеет и мутнеет, а при недостатке – дно и стенки аквариума покрываются коричневыми водоросля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ледить, чтобы в нем не было резких колебаний темпер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ое охлаждение воды даже на 4-5 градусов ослабляет рыб, и они заболев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24382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новид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ный телеско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210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16765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ыба попуг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43600" y="2536920"/>
            <a:ext cx="266688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-417492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лотая рыб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581280" cy="1790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80720" y="160020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истограмма Рамире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27432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ля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962160" cy="1981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48440" y="1828800"/>
            <a:ext cx="42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еригоплихт парчо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41911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льз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Сажать только что купленных рыб в уже заселенный аквариум. Лучше 2-3 недели выдержать их на карантине в другом аквариу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льзя перемещать аквариум, наполненный в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Водный мир"/>
          <p:cNvPicPr/>
          <p:nvPr/>
        </p:nvPicPr>
        <p:blipFill>
          <a:blip r:embed="rId1"/>
          <a:stretch/>
        </p:blipFill>
        <p:spPr>
          <a:xfrm>
            <a:off x="1219320" y="4167360"/>
            <a:ext cx="2590560" cy="1734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Морские рыбки"/>
          <p:cNvPicPr/>
          <p:nvPr/>
        </p:nvPicPr>
        <p:blipFill>
          <a:blip r:embed="rId2"/>
          <a:stretch/>
        </p:blipFill>
        <p:spPr>
          <a:xfrm>
            <a:off x="5867280" y="4191120"/>
            <a:ext cx="25146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квариумы бывают разными по форме: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ямоуго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шести- и восьмигран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круг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асивы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зкие и высокие аквариу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так называемы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квариу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шир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у которых высота значительно превышает шир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ьшую популярность завоевал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ямоугольные аквариу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тандартного типа, ширина которой равна высоте, а длина превышает ширину в два раза. Эти аквариумы, как правило, из стекла в металлическом каркасе (от 40 до 100 л. Во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35304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1120" y="410760"/>
            <a:ext cx="795816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 самом начал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вариум и фильтр должны быть готовы за неделю до приобретения рыб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Когда аквариум подготовлен, ты можешь выбр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ыбок и пересадить их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Место для аквариума нужно выбрать такое, чтобы на него не падали прямые солнечные лу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Вместе с тем он не должен быть совсем лишен св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Его можно расположить в простенке между окнами или у противоположной окну стены на прочном столе или тумбоч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Аквариум следует закрывать стеклом (не полностью), что бы вода не запылилась раньше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7T07:35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